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74C2-1283-442E-9F1B-3B156B2C9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BC54-4C28-4360-B1F3-CE55B5A1B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D1CE-C900-4EB5-8BDA-6F4CAF44A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9E0F-B5AB-4C27-B422-2291126AB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DBB57-EFD0-4389-9FDB-0536DBFB3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1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66ECE-655B-4FDB-B733-BCA4D4196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C602A-B948-4B01-BBA3-C51B45038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5237E-FA39-48B7-AFE2-DD1E90C31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B3A3C-2C24-4CB8-926B-F26CC9EA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1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CDF80-3497-42AB-B01C-6F77A4A63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78112-2C85-4226-B8A5-0CBCA44E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1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7A45-53D8-43DD-9296-61F86FC41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6EE41-718F-458E-942A-505670AE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E40A7-6D01-40FA-AC8C-9E8EC574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FEF19-EB46-4A46-80A1-066FE6264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B15DD-5445-46CE-A827-D84739990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B3576-F3AD-463C-959B-5D8AD198F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751F-0134-432D-9FC3-49089D5E0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0F6B-F722-41DB-A049-82FFB8F5A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1DDE-A26C-4EC7-B20D-42AE6C9EF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1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DB00-9B42-4B3A-BBCE-6C5941518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565C-1D1D-4549-A46B-4C387C6A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22CC-B51D-4E71-A51A-703EA650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2524-4DE4-4CFB-A07F-DF1E45E6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49FE4-4920-4598-B661-4418D70E77B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45592-6B01-4EB2-9CA3-6D0870C22EC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41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ts val="36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206360" y="4335480"/>
            <a:ext cx="7315200" cy="14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ts val="41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3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imes New Roman (Arabic)"/>
              </a:rPr>
              <a:t>مايو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70720" y="2741760"/>
            <a:ext cx="542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ب</a:t>
            </a: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رنامج الأعداد لأمتحان المتوس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ادة المراجع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038240" y="407880"/>
            <a:ext cx="7315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ج</a:t>
            </a:r>
            <a:r>
              <a:rPr b="0" lang="ar-SA" sz="19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عية المحاسبيين والمراجعيين المصرية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3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أنشطة المرتبطة بالبي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4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43400" y="2209680"/>
            <a:ext cx="374508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ديد الحدود الأئتمان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05320" y="2819520"/>
            <a:ext cx="290664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19520" y="3470400"/>
            <a:ext cx="3124080" cy="5806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مبيعات والأشعارات الدائن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4724280"/>
            <a:ext cx="312444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تج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4019400"/>
            <a:ext cx="281952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حسا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2280" y="5391000"/>
            <a:ext cx="289584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يون المعدوم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05720" y="1143000"/>
            <a:ext cx="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1523880"/>
            <a:ext cx="359280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لبات البي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3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فصل بين الأختصاصات المتعارضة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66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733920" y="1523880"/>
            <a:ext cx="229716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دارة 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1523880"/>
            <a:ext cx="206856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بي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143000"/>
            <a:ext cx="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629400" y="1523880"/>
            <a:ext cx="2144880" cy="703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قبول طل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77120" y="2430360"/>
            <a:ext cx="2112840" cy="3735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مستندات مسلسلة لضمان تسجيل كل طلبات العملا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حدود الأئتمان بواسطة ادارة الأئتما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ديد سعر البيع والخصومات الخاصة بواسطة شخص مسئول فى ادارة البيع وليس فى ادارة الحساب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86200" y="2438280"/>
            <a:ext cx="2112840" cy="29757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مستندات خروج بضاعة اواذون شحن مسلسلة لكل البضائع التى يتم خروجها من المنشأ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تم ذلك عن طريق ادارة الشحن او بواسطة حارس البوابة وليس بواسطة عضو من ادارة الحساب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43000" y="2514600"/>
            <a:ext cx="2112840" cy="41619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فواتير مسلسلة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يتم تحريرها بواسطة ادارة المبيع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مراجعة للتأكد من أنه قد تم تحرير فواتير لكل البضائع المبينة بأذون الشح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رقابة صارمة على اشعارات الخصم لضمان اصدارها بأعتماد مناسب مقابل اذون ارتجا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جراءات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588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324480" y="1143000"/>
            <a:ext cx="19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ل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1797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تحديد حدود ائتمان لكل عمي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8600" y="2222640"/>
            <a:ext cx="2989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طلبات العملاء مع حساباتهم والحصول على موافقة ادارة الأئتمان فى حالة التجاوز اوالعميل الجديد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78600" y="3228840"/>
            <a:ext cx="29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طلبات بيع مسلسلة لتسجيل طلبات العمي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5880" y="38386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عتماد كل طلبات البيع قبل شحن البضاع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5880" y="452448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طلبات البيع لأستخراج أذون شحن لخروج البضاع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19920" y="5286240"/>
            <a:ext cx="298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خروج أى بضاعة بدون اذن شحن معتم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733920" y="114300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06800" y="1825560"/>
            <a:ext cx="2989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كون اذون شحن البضاعة مسلسلة رقميا وان يحتفظ بسجل لها للمطابقة مع فواتير البيع وطلبات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06800" y="3044880"/>
            <a:ext cx="2989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أعتماد اذون شحن البضائع عند خروج البضائع وان يتم مراجعتها دوريا للتأكد من اكتمالها وان يتم استخراج فواتير لكل منه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114300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مبيعات والأشعارات الدائن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280" y="1905120"/>
            <a:ext cx="29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عتماد فواتير البيع من الشخص المسئول ومراجعتها مع الطلب الأصلى المعتمد واذن الشحن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280" y="3124080"/>
            <a:ext cx="29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ثبات كل الفواتير واشعارات الخصم فى سجلات يومية المبيعات واستاذ مساعد العملاء واستاذ مراقبة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2280" y="42670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دقة الحسابية لفواتير البيع واشعارات الخصم بواسطة شخص مستقل عن معد الفواتير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280" y="51814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كون كل الفواتير واشعارات الخصم مسلسة رقميا, وان يتم مراجعة التسلسل بصفة منظم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جراءات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0040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24480" y="1143000"/>
            <a:ext cx="19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ل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114300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114300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مبيعات والأشعارات الدائن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2280" y="182880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تماد اشعارات الخصم من شخص مشتقل عن اعمال الشحن او القيد فى دفاتر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2280" y="274320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لأحتفاظ بالفواتير الملغا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2280" y="320040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إلغاء مستندات الشحن المتعلقة بأى فاتورة يتم الغائها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2280" y="38098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عتمد الفواتير الملغاة او البضاعة المجانية من الشخص المسئو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2280" y="47242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يتم فصل الأنواع المختلفة من المبيعات وكذا ضريبة المبيعات فى كل فاتورة بي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جراءات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7220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324480" y="1143000"/>
            <a:ext cx="19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تج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733920" y="114300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114300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يون المعدوم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35000" y="1828800"/>
            <a:ext cx="298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يتم اعتماد اعدام الديون المعدومة كتابة وان تتم التسوية فى استاذ حساب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2280" y="2743200"/>
            <a:ext cx="2989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تماد اقامة اى دعوى قضائية او اعدام احد الديون بواسطة شخص مسئول وان يكون مستقلا عن عمليات استلام النقدي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19920" y="1828800"/>
            <a:ext cx="298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فحص البضائع التى يتم اعادتها من العملاء وتحديد العيوب الواضحة بها عند استلامها واثباتها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78600" y="2743200"/>
            <a:ext cx="29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داد اشعار خصم لجميع البضائع التى يتم اعادتها من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24080" y="1828800"/>
            <a:ext cx="29894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ستكمال حساب مراقبة استاذ العملاء بصفة منتظمة وان يتم مراجعته مع رصيد كل نوع من ارصدة استاذ العملاء المساعد بواسطة شخص مستق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457200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متابعة الديون المتأخرة فى السداد وإعداد قائمة بأعمار الديون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24080" y="327672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كون حسابات العملاء مستقلة عن اعمال الشحن او استلام النقدي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124080" y="391464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رسال كشوف حساب الى العملاء بصفة دوري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124080" y="525780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رسال خطابات للعملاء لتحصيل الديون المتأخر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ختبارات 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001000" y="15145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1447920"/>
            <a:ext cx="75438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جراء اختبار للتاكد من تسلسل الفواتير واشعارات الخصم واذون الشحن وطلبات العملا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4920" y="2209680"/>
            <a:ext cx="74674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حقق من وجود اعتماد مناسب والتأكد من وجود التوقيع المناسب والتحقق من انه يتم تطبيق الرقابة مثل مراجعة دقة التسعير وحدود الأئتمان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001000" y="24289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4920" y="3124080"/>
            <a:ext cx="74674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حث عن أدلة لمراجعة الدقة المحاسبية للفواتير وأشعارات الخصم و ضريبة المبيعات وعادة مايتم عن طريق وضع ختم على الفاتورة يتطلب توقيع المراجع والتاكد من تطبيق الرقابة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001000" y="32767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3962520"/>
            <a:ext cx="7467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ذون الشحن واذون ارتجاع البضائع للتأكد من مطابقتها مع الفواتير واشعارات الخصم والعكس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01000" y="403848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4724280"/>
            <a:ext cx="7467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أكد من انه قد تم اجراء تسويات حسابات المراقبة وانه قد تم مراجعتها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920" y="5410080"/>
            <a:ext cx="7467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اكد من تطبيق الرقابة على اجماليات كل مجموعة وذلك بالبحث عن التوقيعات وتتبع المجموعات من المدخلات الى المخرجات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001000" y="480060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001000" y="55627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جراءات التحقق من 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924680" y="5867280"/>
            <a:ext cx="8384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كتما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324480" y="1371600"/>
            <a:ext cx="2286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سجلات المحاسب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324480" y="1905120"/>
            <a:ext cx="2362320" cy="287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دقة الحسابية لدفتر يومية المبيعات ودفتر مرتجعات المبيع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ترحيل كل فاتورة الى الأستاذ العام وحساب المراقب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قيود اليومية فى دفتر يومية المبيعات ودفتر مرتجعات المبيع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553080" y="5867280"/>
            <a:ext cx="12193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وجود/الحدو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10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ق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267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قط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00400" y="5867280"/>
            <a:ext cx="762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يي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76520" y="5867280"/>
            <a:ext cx="12189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قوق الألتزام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2280" y="5867280"/>
            <a:ext cx="1295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رض والأفصا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429000" y="1371600"/>
            <a:ext cx="24382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واتير المبيعات واشعارات الخص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1905120"/>
            <a:ext cx="2438280" cy="565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تسلسل الرقمى للفواتير والسؤال عن الفواتير الغير موجودة وفحص الفواتير الملغا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صور فواتير البيع واشعارت الخصم مع دفتر يومية المبيعات وحسابات استاذ العملاء ومراجعة تحليل المبيعات فى دفتر يومية المبيعات واعتماد اشعارات الخصم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الأسعار المدرجة فى الفواتير مع قائمة الأسعار المعتمدةوحدود الأئتمان للعمي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دقة الحسابية لفواتير واشعارات الخص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شعارات الخصم خاصة البنود الكبيرة او الغير عاد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1371600"/>
            <a:ext cx="2438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جلات المخاز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520" y="1905120"/>
            <a:ext cx="2438280" cy="392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سيتم تغطيتها تفصيلا فى القسم الثانى من هذا الفصل والتالى يستحق عرضه هن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طابقة اذون شحن البضاعة وسجلات البضاعة المنصرفة مع صور فواتير المبيع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بع حركة البضائع المنصرفة بداية من الفاتورة الى اذون الشحن الى سجلات المخازن والعكس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بع البضائع المرتجعة من مستندات الرتجاع الى سجلات المخازن واشعارات الخص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جراءات التحقق من 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924680" y="5867280"/>
            <a:ext cx="8384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كتما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324480" y="1371600"/>
            <a:ext cx="2286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سابات المراقب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1905120"/>
            <a:ext cx="236232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ختبار تسوية حسابات المراقبة بالرجوع الى اصول المستندات ( مثل فواتير البيع , سجلات المرتجعات, والنقدية) والتأكد من اجراء التسويات المناسب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53080" y="5867280"/>
            <a:ext cx="12193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وجود/الحدو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10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ق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67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قط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200400" y="5867280"/>
            <a:ext cx="762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يي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676520" y="5867280"/>
            <a:ext cx="12189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قوق الألتزام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280" y="5867280"/>
            <a:ext cx="1295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رض والأفصا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29000" y="1371600"/>
            <a:ext cx="2438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راءات التحليل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29000" y="1905120"/>
            <a:ext cx="2438280" cy="469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لب فى مستوى المبيع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مستويات المبيعات خلال العام على اساس شهرى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ذات الفترة من العام الساب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اخر شهر فى العام مع اول شهر فى العام التالى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د تشير التقلبات من شهرلأخر الى سوء تبويب المبيعات  بين الأشهر  اوحذف مبيعات اووجود مبيعات ذات قيمة عال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ى حالة وجودتقلبات غير مبررة يجب اجراء فحص مستند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3520" y="1371600"/>
            <a:ext cx="2438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فصا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3520" y="1905120"/>
            <a:ext cx="243828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ظهار المبيعات طبقا لنوعية النشاط والموقع الجغرافى للأسوا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Blackpearl%20w%5B047%5Dcop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69880" y="603360"/>
            <a:ext cx="777708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فصل</a:t>
            </a:r>
            <a:r>
              <a:rPr b="0" lang="en-GB" sz="24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حادى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عش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هداف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اجراءات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اختبارات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رق</a:t>
            </a:r>
            <a:r>
              <a:rPr b="0" lang="en-GB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ب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داخل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بعض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جراءات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تحق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أحمد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جمال</a:t>
            </a:r>
            <a:r>
              <a:rPr b="0" lang="ar-SA" sz="2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حمدالل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ز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يل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جمعية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حاسبي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المراجعي</a:t>
            </a: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صر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صور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شركاه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براي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ترهاو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كوبر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PwC_Logo"/>
                <a:ea typeface="PwC_Logo"/>
              </a:rPr>
              <a:t>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هداف واجراءات واختبارات الرقابة الداخلية وبعض اجراءات التحقق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76760" y="1295280"/>
            <a:ext cx="229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تناول هذا الفص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18240" y="1600200"/>
            <a:ext cx="348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هداف الرقابة ال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جراءات الرقابة ال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ختبارات الرقابة ال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جراءات التحق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راءات التحلي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81400" y="3581280"/>
            <a:ext cx="33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لدورات المحاسبية  الت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36920" y="3733920"/>
            <a:ext cx="2936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بيع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شتر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خز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ور والمرتب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نقد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صول طويلة الأج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هداف واجراءات واختبارات الرقابة الداخلية وبعض اجراءات التحقق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05640" y="129528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هد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2057400"/>
            <a:ext cx="6553440" cy="113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فهم المبادئ العامة للأختبارات فى كل دورة </a:t>
            </a:r>
            <a:r>
              <a:rPr b="0" lang="ar-SA" sz="1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دلا من حفظ قوائم طويلة منها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ماذا نحتاج الى رقابة داخلية على المبيعات والمشتريات ؟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28560" y="1447920"/>
            <a:ext cx="741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ماذا نحتاج الى رقابة داخلية على المبيعات والمشتريات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437760" y="2057400"/>
            <a:ext cx="107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سبب المخاطر التى قد تحدث فى حالة عدم وجود مثل هذه الرقابة على سبيل المث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5562720"/>
            <a:ext cx="762120" cy="1066680"/>
          </a:xfrm>
          <a:custGeom>
            <a:avLst/>
            <a:gdLst>
              <a:gd name="textAreaLeft" fmla="*/ 101880 w 762120"/>
              <a:gd name="textAreaRight" fmla="*/ 660240 w 76212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مثلة على مخاطر عدم وجود رقابة على المبيعات؟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772400" y="1371600"/>
            <a:ext cx="106668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ترقيم اوامر البي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81680" y="1600200"/>
            <a:ext cx="838440" cy="304920"/>
          </a:xfrm>
          <a:prstGeom prst="leftArrow">
            <a:avLst>
              <a:gd name="adj1" fmla="val 50000"/>
              <a:gd name="adj2" fmla="val 6874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48680" y="1295280"/>
            <a:ext cx="22852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قدانها وعدم تنفيذ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وتكرار تنفيذ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-768600" y="1295280"/>
            <a:ext cx="531720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رضاء العمي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ضياع فرصة تحقيق ايرا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سداد قيمة المشتريات التى تكرر استلامهم ل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160020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772400" y="2514600"/>
            <a:ext cx="106668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مطابقة اذون الشحن مع الفواتي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81680" y="2819520"/>
            <a:ext cx="838440" cy="304560"/>
          </a:xfrm>
          <a:prstGeom prst="leftArrow">
            <a:avLst>
              <a:gd name="adj1" fmla="val 50000"/>
              <a:gd name="adj2" fmla="val 68824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71040" y="2514600"/>
            <a:ext cx="28692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د لا نستطيع ارسال فواتير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ى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3124080"/>
            <a:ext cx="196236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بضائع لم يستلمها العميل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320" y="2577960"/>
            <a:ext cx="365760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رضاء العميل نتيجة ارسال فواتير خاطئة وتحمل تكاليف ادارية لاداعى ل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تحصيل قيم البضاعة اوالخدمة نتيجة عدم اصدار فاتور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9880" y="2971800"/>
            <a:ext cx="838440" cy="304920"/>
          </a:xfrm>
          <a:prstGeom prst="leftArrow">
            <a:avLst>
              <a:gd name="adj1" fmla="val 50000"/>
              <a:gd name="adj2" fmla="val 6874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0120" y="3962520"/>
            <a:ext cx="129528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تجميع الفواتير ومراجعتها حسابي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05720" y="426708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00600" y="4114800"/>
            <a:ext cx="188604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قدان الفواتير اوتسجيلها بقيمتها الخاطئة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320" y="4114800"/>
            <a:ext cx="36576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وجود ارصدة دائنة للعملا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علومات المالية غير صحيح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86200" y="426708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0120" y="5334120"/>
            <a:ext cx="129528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الأحتفاظ بدفتر استاذ مساعد للعملا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705720" y="563868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43360" y="5337000"/>
            <a:ext cx="188604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ظهور اجمالى المديونية دون تحديد رصيد كل عميل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320" y="5410080"/>
            <a:ext cx="365760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عوبة تتبع الأرصدة التى مضى تاريخ استحقاق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عوبة المطابقة مع العميل فى حالة عدم الأتفا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9880" y="5562720"/>
            <a:ext cx="838440" cy="304560"/>
          </a:xfrm>
          <a:prstGeom prst="leftArrow">
            <a:avLst>
              <a:gd name="adj1" fmla="val 50000"/>
              <a:gd name="adj2" fmla="val 68824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هداف الرقابة الداخلية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52480" y="1905120"/>
            <a:ext cx="5929560" cy="448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جميع المعاملات المعتمدة قد تم تسجيلها فى الوقت الصحيح وبالقيم الصحيحة فى الحسابات الصحيحة وفى الفترة المحاسبية الخاصة ب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من له حق التعامل مع الأصول هو الذى يقوم بذل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ه قد تم مقارنة ماتم تسجيله بالدفاتر مع الموجود فعل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وجه التشابه بين الأجراءات الرقابية على المبيعات والمشتريات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1752480"/>
            <a:ext cx="8305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ستندات مسلسلة مع مرجعة لاحقة للتسلسل لضمان الأكتما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2590920"/>
            <a:ext cx="83055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المجموعات واجماليات رقابية اخرى فى مرحلة الأدخال مع مراجعة لاحقة للمخرجات للتأكد من الأكتمال والد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3581280"/>
            <a:ext cx="83055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حسابات المراقبة والتاكد من مطابقتها مع دفتر الأستاذ العام والأستاذ المساع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4530600"/>
            <a:ext cx="83055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سلطات اعتماد مناسبة عن طريق توقيع الأشخاص المسئولين لانشاء وادخال وتوزيع المستندا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5181480"/>
            <a:ext cx="809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تشمل اختبارات الرقابة الحصول على ادلة أن الأجراءات السابق الأشارة اليها قد تم تطبيقها وفى العادة يبحث المراجع عن دليل يوضح ان اجراء الرقابة قد تم تنفيذه مثل التوقي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مخاطر الرئيسية المتعلقة بدورتى  المبيعات والمشتريات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1752480"/>
            <a:ext cx="830556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شل دورة المبيعات ودورة المشتريات فى تحقيق اهداف المنشأة والتى قد ينتج عنها خسائر مالية  أو تاثير سلبى على سمعة المنشأ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2590920"/>
            <a:ext cx="83055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راء بضائع غالية الثمن اوغير مناسبة مما يؤدى الى الأنحراف عن الموازنة التقديرية و تحقيق خسائر 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581280"/>
            <a:ext cx="83055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خفاق فى شراء بضائع او خدمات فى الوقت المناسب والذى قد يؤدى الى عدم الأنتهاء فى المواعيد المطلوب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4530600"/>
            <a:ext cx="83055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دوث مشتريات اوعمليات بيع غير سليمة مما قد يؤدى الى خسائر مالية أو حدوث تأثير سلبى على سمعة المنشأ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2T16:06:08Z</dcterms:created>
  <dc:creator>agamal</dc:creator>
  <dc:description/>
  <dc:language>en-US</dc:language>
  <cp:lastModifiedBy>agamal</cp:lastModifiedBy>
  <dcterms:modified xsi:type="dcterms:W3CDTF">2003-05-02T23:10:34Z</dcterms:modified>
  <cp:revision>8</cp:revision>
  <dc:subject/>
  <dc:title>أهداف واجراءات واختبارات الرقابة الداخلية وبعض اجراءات التحقق</dc:title>
</cp:coreProperties>
</file>